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706F-EA53-427F-A420-0B7AAB94D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B792-EFB4-4645-81A7-4FC4BD408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77A8-0D34-490B-8985-3B2EC2562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5E7F-2858-4814-B57F-890D66C66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5ACFD-45D2-40F9-8068-0ED875093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2C7F5-BBBE-4212-A025-CE11F433E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5962D-21F7-4C79-A5AA-DFF0DA0EB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C82D8-1A03-4C5F-BD70-15BA9D254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F87C5-CB2A-4915-8F0C-C499B20DB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00054-545F-4960-9AA1-153A561B4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5DBF4-0D23-4414-B3FC-E2B65BAD5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FDDF-1EF7-4AA6-BB39-8C3963624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65558-745F-4AD9-9BD7-AED88E3DF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F870C-A422-4A69-A3F3-D6AB0E3A0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5AF5F-FCAC-4B1C-883E-1B200CF9B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B19A0-1A33-43DA-A290-EBF63AE47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56865-C865-45FA-90D4-31F22540A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B647-EF9F-40DB-8F64-663510F06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B0F6-6D31-4E18-B556-E202868C5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99F7-DE44-402F-B94B-6D15FC705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5D20-CF80-4962-8CF8-789D0DB26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49C0-A82A-4B08-83DB-41A3F9420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AD05-1B69-4FDE-8246-0BFB63B54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84BD-A708-4A05-BD9A-6099D851A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CB62A-9A6D-4869-B89F-64E3F381AA5F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D8C1C-9454-4530-94DE-406DDC515DD8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541008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800"/>
            </a:br>
            <a:br>
              <a:rPr sz="8000"/>
            </a:br>
            <a:r>
              <a:rPr b="0" lang="ar-SA" sz="9600" spc="-1" strike="noStrike">
                <a:solidFill>
                  <a:srgbClr val="000000"/>
                </a:solidFill>
                <a:latin typeface="Tahoma"/>
                <a:cs typeface="????Boutros Rokaa"/>
              </a:rPr>
              <a:t>أمام كأسك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0" y="2060640"/>
            <a:ext cx="547200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أمامَ كأسِكَ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تَنحني الرؤوسُ... تخفِقُ القلوبُ..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ea typeface="Akhbar MT"/>
              </a:rPr>
              <a:t> تتمتمُ الشفاهُ.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-1176840" y="1739880"/>
            <a:ext cx="7462440" cy="350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وتحلمُ العيونُ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بنورِكَ المُضيءْ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771640" y="476280"/>
            <a:ext cx="6228000" cy="213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أمــامَ كــأسِــكَ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نـهـتِـفُ بـالـدُعـاءِ..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708360" y="2641680"/>
            <a:ext cx="5292720" cy="733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ندعـو بـاسمِـكَ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نُحـاوِرُ السمـاءَ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فاستَجِـبْ لنـ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-108000" y="2060640"/>
            <a:ext cx="547200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أمامَ كأسِكَ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تَنحني الرؤوسُ... تخفِقُ القلوبُ..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ea typeface="Akhbar MT"/>
              </a:rPr>
              <a:t> تتمتمُ الشفاهُ.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-811800" y="1879560"/>
            <a:ext cx="6732360" cy="316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وتحلمُ العيونُ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بنورِكَ المُضيءْ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20:45:08Z</dcterms:created>
  <dc:creator>Charbel Azar</dc:creator>
  <dc:description/>
  <dc:language>en-US</dc:language>
  <cp:lastModifiedBy>ف</cp:lastModifiedBy>
  <dcterms:modified xsi:type="dcterms:W3CDTF">2006-05-16T10:41:01Z</dcterms:modified>
  <cp:revision>19</cp:revision>
  <dc:subject/>
  <dc:title>PowerPoint Presentation</dc:title>
</cp:coreProperties>
</file>